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BCB0-CF5B-43FD-BB41-A82A9E03F3E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FD95-43C6-40D5-9115-B2968F2C3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B9C8-52C0-48BF-9DAB-F6C67E838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6770-E248-42B0-9451-C452FF44E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D3AF-EBEA-43D6-91A5-AB6225591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FF50-AEEE-4F16-A5CF-054C26DB2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5E10-8733-4B1C-AA74-75E2D73DA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A653-FA5B-42C0-82B1-D4A9B2B8F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AD45-9792-4BC5-A8EB-E2D757454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5F9C-C6DC-4C4A-AE53-71D769355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63E6-9B79-4C06-B01E-09D80470C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72A1-0A2F-4829-9D38-4874FB169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29DC-D316-424A-B214-605786905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74EA-2388-49DC-8CBD-EE1148CE7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6B61-D49F-45F1-86D8-53EAD6030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6E8E-BAEF-4C82-9805-3D1629E00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4B18-1270-41BF-A9DC-72C2A3A76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21F9-3979-47E9-8DBA-546A4DBD1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E942-8BF0-4864-82C9-2B75FF605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C474-44A9-4A8F-8783-59F3971DA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F7DE-A60E-4946-867E-5B407F444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A2A2-E20D-4813-A758-C4903768A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491D-29F6-45FE-9489-34498B1B8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22F4-3C6C-42AF-B860-EFE798CC1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42E3-60AC-4437-A2CD-626D2A604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52D9-ADBE-4217-BF7B-D90CDC812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42E3-3647-409C-BA59-1C8060CB8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4036-A96A-4AC1-82D7-148CD9F25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DDE8-CD37-44D6-82B3-118A451C5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EB0D-18C0-4A6D-A10F-6B9B9E163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2519-555A-411C-8798-A2C81F4CB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3B36-3701-4F2A-80CC-4A8288854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36AE-4C8B-4067-9D04-5AE4C0F90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5165-C3EC-48DE-9F59-101CB63E7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6852-1187-42E9-BB7F-86A503D86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0E28-0137-4166-A575-8502034BC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EB57-3C38-46D6-B6D0-42558D38F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980A-3792-47EE-AF58-59709F85A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BD13-E7B6-4350-8E63-7D3F0B736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D027-8643-4216-9DFC-ED123E731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83FB-D00D-4B18-9CF6-36CFD59EE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8A07-0E8E-499C-9F3E-27BA2BBCD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979B-48D0-4BFB-BDD5-EAD560B2B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3167-B4BE-4BBC-9F93-25D5CD2C2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D6D0-2EBE-4D37-A93B-AF6A3D2DE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ADE3-C3BB-4C5F-94D8-11DAF8A6A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509B-400D-4805-B6CA-C07D4FEE1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4E49-8BD8-408D-8B41-284C80224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3D6A-64CD-4963-B8BB-4E78EFF48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14B5-600D-46D5-A176-F42F9E848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1F89-1848-4FFC-AD95-B3804C07F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F8E7-1014-4A46-B1B1-2E963B7A2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3D54-43CA-45B1-9E56-A26CC50AF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BB4E-3F9F-4C5A-8C86-0492A9EC8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178D-1F5D-44C8-A110-2635754AE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0EDF-1625-4059-8DE0-3B3CFC2A7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FEFC-9CDA-45B4-B08C-95ECAEBA4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4B07-343B-417C-BD27-96CA0A5F1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1DCD-CB5B-4BBB-87DD-9666066A6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985680" y="741240"/>
            <a:ext cx="4886640" cy="3665520"/>
          </a:xfrm>
          <a:prstGeom prst="rect">
            <a:avLst/>
          </a:prstGeom>
          <a:ln w="0">
            <a:noFill/>
          </a:ln>
        </p:spPr>
      </p:sp>
      <p:sp>
        <p:nvSpPr>
          <p:cNvPr id="14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65AC-68AD-4183-BC4C-E68EA3903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985680" y="741240"/>
            <a:ext cx="4886640" cy="3665520"/>
          </a:xfrm>
          <a:prstGeom prst="rect">
            <a:avLst/>
          </a:prstGeom>
          <a:ln w="0">
            <a:noFill/>
          </a:ln>
        </p:spPr>
      </p:sp>
      <p:sp>
        <p:nvSpPr>
          <p:cNvPr id="14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972D-B17B-4045-8683-D6849BBE3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985680" y="741240"/>
            <a:ext cx="4886640" cy="3665520"/>
          </a:xfrm>
          <a:prstGeom prst="rect">
            <a:avLst/>
          </a:prstGeom>
          <a:ln w="0">
            <a:noFill/>
          </a:ln>
        </p:spPr>
      </p:sp>
      <p:sp>
        <p:nvSpPr>
          <p:cNvPr id="14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029A-95BF-4F74-8A75-F5769534D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985680" y="741240"/>
            <a:ext cx="4886640" cy="3665520"/>
          </a:xfrm>
          <a:prstGeom prst="rect">
            <a:avLst/>
          </a:prstGeom>
          <a:ln w="0">
            <a:noFill/>
          </a:ln>
        </p:spPr>
      </p:sp>
      <p:sp>
        <p:nvSpPr>
          <p:cNvPr id="14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A1D3-0337-49F1-89D0-934D05CAE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85680" y="741240"/>
            <a:ext cx="4886640" cy="3665520"/>
          </a:xfrm>
          <a:prstGeom prst="rect">
            <a:avLst/>
          </a:prstGeom>
          <a:ln w="0">
            <a:noFill/>
          </a:ln>
        </p:spPr>
      </p:sp>
      <p:sp>
        <p:nvSpPr>
          <p:cNvPr id="14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35A2-8E27-47CA-9AB1-89E726FAC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985680" y="741240"/>
            <a:ext cx="4886640" cy="3665520"/>
          </a:xfrm>
          <a:prstGeom prst="rect">
            <a:avLst/>
          </a:prstGeom>
          <a:ln w="0">
            <a:noFill/>
          </a:ln>
        </p:spPr>
      </p:sp>
      <p:sp>
        <p:nvSpPr>
          <p:cNvPr id="14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6AFD-B4AE-4796-AA69-2156E90AC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985680" y="741240"/>
            <a:ext cx="4886640" cy="3665520"/>
          </a:xfrm>
          <a:prstGeom prst="rect">
            <a:avLst/>
          </a:prstGeom>
          <a:ln w="0">
            <a:noFill/>
          </a:ln>
        </p:spPr>
      </p:sp>
      <p:sp>
        <p:nvSpPr>
          <p:cNvPr id="14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54B1-F3D6-4D39-9D23-25A5346D9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985680" y="741240"/>
            <a:ext cx="4886640" cy="3665520"/>
          </a:xfrm>
          <a:prstGeom prst="rect">
            <a:avLst/>
          </a:prstGeom>
          <a:ln w="0">
            <a:noFill/>
          </a:ln>
        </p:spPr>
      </p:sp>
      <p:sp>
        <p:nvSpPr>
          <p:cNvPr id="14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4108-5ED4-4178-A868-C40E2F48A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23CF-F938-42D2-B392-234435D9D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985680" y="741240"/>
            <a:ext cx="4886640" cy="3665520"/>
          </a:xfrm>
          <a:prstGeom prst="rect">
            <a:avLst/>
          </a:prstGeom>
          <a:ln w="0">
            <a:noFill/>
          </a:ln>
        </p:spPr>
      </p:sp>
      <p:sp>
        <p:nvSpPr>
          <p:cNvPr id="14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5424-3C38-471C-AD1E-05F6C8F02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985680" y="741240"/>
            <a:ext cx="4886640" cy="3665520"/>
          </a:xfrm>
          <a:prstGeom prst="rect">
            <a:avLst/>
          </a:prstGeom>
          <a:ln w="0">
            <a:noFill/>
          </a:ln>
        </p:spPr>
      </p:sp>
      <p:sp>
        <p:nvSpPr>
          <p:cNvPr id="14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C010-2C3B-4F0E-923B-3F13908F0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985680" y="741240"/>
            <a:ext cx="4886640" cy="3665520"/>
          </a:xfrm>
          <a:prstGeom prst="rect">
            <a:avLst/>
          </a:prstGeom>
          <a:ln w="0">
            <a:noFill/>
          </a:ln>
        </p:spPr>
      </p:sp>
      <p:sp>
        <p:nvSpPr>
          <p:cNvPr id="14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BC00-9FF1-478E-A5B0-FF044713E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985680" y="741240"/>
            <a:ext cx="4886640" cy="3665520"/>
          </a:xfrm>
          <a:prstGeom prst="rect">
            <a:avLst/>
          </a:prstGeom>
          <a:ln w="0">
            <a:noFill/>
          </a:ln>
        </p:spPr>
      </p:sp>
      <p:sp>
        <p:nvSpPr>
          <p:cNvPr id="14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6C6B-1C7F-49C3-BD74-C7AD33CD0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985680" y="741240"/>
            <a:ext cx="4886640" cy="3665520"/>
          </a:xfrm>
          <a:prstGeom prst="rect">
            <a:avLst/>
          </a:prstGeom>
          <a:ln w="0">
            <a:noFill/>
          </a:ln>
        </p:spPr>
      </p:sp>
      <p:sp>
        <p:nvSpPr>
          <p:cNvPr id="14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667B-989D-4D70-B131-32C9B9C96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985680" y="741240"/>
            <a:ext cx="4886640" cy="3665520"/>
          </a:xfrm>
          <a:prstGeom prst="rect">
            <a:avLst/>
          </a:prstGeom>
          <a:ln w="0">
            <a:noFill/>
          </a:ln>
        </p:spPr>
      </p:sp>
      <p:sp>
        <p:nvSpPr>
          <p:cNvPr id="14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48B9-E26E-471D-BD7A-A6C28F061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985680" y="741240"/>
            <a:ext cx="4886640" cy="3665520"/>
          </a:xfrm>
          <a:prstGeom prst="rect">
            <a:avLst/>
          </a:prstGeom>
          <a:ln w="0">
            <a:noFill/>
          </a:ln>
        </p:spPr>
      </p:sp>
      <p:sp>
        <p:nvSpPr>
          <p:cNvPr id="14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AA04-2890-451A-8342-287CCE3C1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85680" y="741240"/>
            <a:ext cx="4886640" cy="3665520"/>
          </a:xfrm>
          <a:prstGeom prst="rect">
            <a:avLst/>
          </a:prstGeom>
          <a:ln w="0">
            <a:noFill/>
          </a:ln>
        </p:spPr>
      </p:sp>
      <p:sp>
        <p:nvSpPr>
          <p:cNvPr id="15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F595-B895-4163-A5D4-61D08AF25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985680" y="741240"/>
            <a:ext cx="4886640" cy="3665520"/>
          </a:xfrm>
          <a:prstGeom prst="rect">
            <a:avLst/>
          </a:prstGeom>
          <a:ln w="0">
            <a:noFill/>
          </a:ln>
        </p:spPr>
      </p:sp>
      <p:sp>
        <p:nvSpPr>
          <p:cNvPr id="15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0069-41D0-4960-9CDF-469F7E2B4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985680" y="741240"/>
            <a:ext cx="4886640" cy="3665520"/>
          </a:xfrm>
          <a:prstGeom prst="rect">
            <a:avLst/>
          </a:prstGeom>
          <a:ln w="0">
            <a:noFill/>
          </a:ln>
        </p:spPr>
      </p:sp>
      <p:sp>
        <p:nvSpPr>
          <p:cNvPr id="1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76F6-7CEE-44B5-B65D-F1203357B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8080-D515-4A30-BF1F-AF0EE6366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985680" y="741240"/>
            <a:ext cx="4886640" cy="3665520"/>
          </a:xfrm>
          <a:prstGeom prst="rect">
            <a:avLst/>
          </a:prstGeom>
          <a:ln w="0">
            <a:noFill/>
          </a:ln>
        </p:spPr>
      </p:sp>
      <p:sp>
        <p:nvSpPr>
          <p:cNvPr id="15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220F-5304-40E2-9BD8-F1903A612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PlaceHolder 1"/>
          <p:cNvSpPr>
            <a:spLocks noGrp="1"/>
          </p:cNvSpPr>
          <p:nvPr>
            <p:ph type="sldImg"/>
          </p:nvPr>
        </p:nvSpPr>
        <p:spPr>
          <a:xfrm>
            <a:off x="985680" y="741240"/>
            <a:ext cx="4886640" cy="3665520"/>
          </a:xfrm>
          <a:prstGeom prst="rect">
            <a:avLst/>
          </a:prstGeom>
          <a:ln w="0">
            <a:noFill/>
          </a:ln>
        </p:spPr>
      </p:sp>
      <p:sp>
        <p:nvSpPr>
          <p:cNvPr id="15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07C6-B904-4A9C-8D05-2C82D7079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0FE9A-BCDA-4B1E-A974-B01A81103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95855-8DB3-4DC3-A977-D64DFFD8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7B87A3-4241-46CA-BA36-FD49455DFA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0A53C8-A200-482F-AE5D-BA48E8B642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A33892-6733-4AC7-BB26-3A3831F683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934BA8-CB6F-4E2E-B505-C11706161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76682E-8316-4188-BC60-C3497960E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80861-9376-42DB-A6E7-855082901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64F741-61F6-48EC-B09B-D5D482AC52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AB30C8-9890-4A6E-9E99-2ACD722841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15CC74-37BA-4009-86AB-1092EDB1B3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53DD40-DE51-408F-85DD-BF9CACAE68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68574-EB22-42ED-ADD3-5ABD8B1D2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681CE9-ABA8-4306-BF47-48D4946A40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8FF1D3-2DA3-4ACC-88A1-20C34F1BC6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A84160-044A-4A69-BF75-2F5BE5F85D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6327DC-C27E-40F4-8721-2857C9949F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A7DA86-02EA-4DA7-A096-B3FD26DC52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A181B8-3EE1-4967-9F5D-901DEDC300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515C57-5834-4F68-A5BD-B4BBA82488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0097F7-6E0F-4F17-9E5A-FB32DEA6E7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E2B7BF-7610-4BFB-994E-8602A17C3A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49055E-41DD-4671-8C60-1BB538948A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25E11-2D02-4AE3-A89A-4073CA65A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715EEE-0A8D-4931-BEB4-177296DA6B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AF2E20-DAF9-4912-A6DD-6CEA35AC94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1A957F-B7AC-410D-AF72-489F6EF7A0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B9619D-CF28-40CF-A3B1-617DD0B173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13EF60-26E2-4F50-AC46-24ABCF1017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7ED01F-7479-4908-8CF3-80ABB4A5BA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7F1B22-1766-42CE-8925-785F8E4DB3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5437EE-04E7-4E77-8003-9AAC8A1FB8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C6386A-2195-4031-8D8D-ADC9797EF7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1E0E3F-FDF6-4A48-B177-D52DE9FD62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FFC7E-ED62-4096-8A2A-195144FBD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ED7D3A-53CB-42D8-9373-CF38229FBC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766CB3-5BE1-4A3F-BF10-C8ECD7022B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29E998-2E34-4D97-8E57-76BBE218FD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A987C2-015E-4F8F-A333-924FC0C995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E83DD2-35B1-4E9D-A430-4E4C8273EC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84CD1A-D417-48C4-9503-045AD71B6D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A0CA86-BFB0-4540-8AD5-F824DFB049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07237E-6B2F-4F28-AE58-9BCF5F5485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C5322E-00E0-4C1C-98FA-1CBC3FC269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E17A1D-E47C-4E55-9A0F-ED7431F3DD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3B344-D2B2-46A1-B5C1-CCE2911A4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BC49E2-8C4F-41E8-B195-0E013C35E1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A4A0B7-D9A7-4AF9-8CE2-799D77CB9C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F33C27-76A3-4610-B492-425FBB3EE8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1085D1-3AFE-49D1-8BDC-4024F301ED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B63B84-6A60-4BA7-BD83-3962135EB2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43601B5-426A-4A0A-B61A-A200BADE4E03}"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D4C041B-0523-4AFE-859D-BBC57B89B3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8EB1231-E513-4347-8CA8-F5FCF40CFC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469EAC6-9C0A-44AB-B25A-4A91D12961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935E44C-FE00-4886-AB1F-AC89FDF3170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605BE-B3CC-4FEE-8EC3-C01926466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AB7929F9-7A63-46BC-BD72-83AE1CDF69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223FCE1-6BA6-40EF-A769-DEEA3C3F74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E449434-073A-4414-8F0A-0F501E514B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A305811-0B15-4EBC-BF85-580293D231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B210BDB-952A-4A9D-99D8-FCD1C6906F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8FFBF360-6E9A-4F2E-A057-A52A9F964B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39FB305-B89D-4916-889F-50CB19D98897}"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2A2C7-EDC0-4E4D-91F5-F8FD8533F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EF7C7-BBE1-447C-BFFB-8276E03A0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CE439-F0D1-4BA9-92C4-E7F4BB245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296FB-F884-441D-B74C-0B4D9AC14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8913-381C-4CB4-8E8E-37CB2DC0E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90441-A551-43C2-BE27-8CDC32AC5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B0BAE-1301-4E19-A6D7-85A8EFD38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36776-56B3-400B-82CD-50F70BA6F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96EF8-B670-43D7-A5F8-4AC007849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5DE36-86FC-454C-A60D-BE75E8713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0D2E4A-4B6C-4DEB-8A89-8DCCD10D08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99CBF-5E8C-4A10-8D95-879681F57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F67FD-B160-4936-BD82-EFAC86653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04C4E-9A41-4E8C-8A89-3F2AF278B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51389-5D2D-4B96-AB58-D50F217E3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F1929-CBDB-4619-B75C-E2C6FEE0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68A8B-391A-4FDD-8397-4EDF5689A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9EF53-89EF-4AD9-AE20-0FF099A10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08D79-4574-4497-90E0-2E3521AE0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94942-C6B2-4D9F-BA92-BC3D3A479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76192-3486-4B53-AEC6-0D2DC6ACC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0CB58-E69D-43A1-9E66-CE42F7B157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A3186A-E23D-4713-A157-78D8016FCD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B66D11-B8F0-4D7D-BE35-0D06E50587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6B035-13D3-488B-B239-4299A8D02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BB390F-F21D-4778-A29D-A29075020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A59F1-A8BA-4597-9C4B-FCF6B970B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E235B-1D3F-4124-B50E-35D011876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536F9-47B6-4683-AA36-CBED3142A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0454B-3A00-4A21-BC34-377A03747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948B1A-180F-49BC-80E6-003AC652C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6AC4A-CA9C-427C-9F79-7FFD58870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B3791-FC7D-426F-86F3-B179B9CFB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EC113-C9F2-4746-91C4-9BF9B5644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636492-FDFD-46EE-B05E-4697F358F7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7E81C3-2052-4699-9E7D-11B192A67B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8DC77-F69D-445B-ABE4-A7906ACE95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BA09D-7974-40D5-ACF9-2BA2688A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F5BB77-66D2-44F7-94E5-9811AA4DD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2AC938-B28A-41CC-A15D-8C92E16BB8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35506-4304-4FF1-B625-A1BE1CA4B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92F03-4902-4E31-B598-1EDDE3A17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B5BB6F-16B5-4B3B-BF4B-7F51A37B9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2FCC1-A13D-4F29-BE66-8BA16B1F4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7324A-BEBA-48A2-9746-2CB1A00AB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C37D9-F0AD-47F2-BF0F-4B9B4805D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3860B-3AA9-46E0-8D60-81DA1366E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74796F-3B25-4CBE-B64B-10D3B4D0B6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1666F-0CCD-4E53-A231-E00CC35DD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FC4207-3B62-4BE3-A9FD-9355A1C397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CCC464-9A24-4C92-986E-9DD9D42222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54D7E7-4D8C-4495-BC1C-1A8416859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1CC7EE-2FFB-4EC6-AE6C-47AF72B89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52E66-E128-4526-BC7A-6A0BF5534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D6BA52-030E-415F-8CD9-C56341113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4664CE-99AE-467A-877D-AC4371DA1A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CE2E4-29D9-4D0A-8698-2AAD97358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DEC9B-6385-459C-A045-F99BD16A2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E71F5-1891-417D-8CF8-3C7252021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750C-DD02-4882-BA07-05F35AA28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525D7-DFF1-45F1-920C-CEBA165C0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E26C56-0AF4-4A07-8D87-5385942D72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44714F-BDDF-4654-B420-A225B5E64E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720F06-A9C3-48C3-8523-370FE39FDA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15C9B-371B-4497-8C72-CF568F010E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CA7B71-881D-40A7-B227-321054161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59A4FB-D22E-46B2-B03B-A533FBA9D7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A006E0-7456-4F49-B8C5-034BE7938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C348B-74D7-4CEF-B5CE-661A93860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17988-80D2-48CB-9CB3-A0A2B60B3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FE578-7971-4635-A25F-3C552826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E43B6-B55F-4A20-ABA3-8E1083C83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67EB2-FBB4-4863-B6E4-2B211436A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F3C8D-0C50-4F06-B5BD-D39B22BBA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E8C7EE-B5B2-4AFC-8D71-3E5D6E8870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F1DD53-E5C4-4C62-898A-34595C89A2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453BB1-98FF-4239-B50E-34A99A3EF0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1EDD7-9B58-4FF3-9F8A-E2BAE6AA3F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6CB3F-AB3F-484F-8E4E-6D6F6B64BA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997E5-F6A9-4A82-86A1-FE2F27E16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EA43E-1B7F-4679-95B9-61BB412BBB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FB75-2529-4F5E-913F-1FB1342DE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18C3E-E691-4B97-A990-DA49C8495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ADC0A-98D9-4BC5-B82B-54F0DC1D0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784DF8-67CF-4102-BBB6-3BC28DF22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1EA43-8DA4-4031-AB6B-5F93A3AAD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0E0736-2C01-49F0-B979-02DFBC346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E24FF9-42C1-4033-A0C6-E064F46C60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6D6F04-CDC5-487B-9DEA-59FA372AC7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9B556C-39B6-4D70-A6B1-22DDF928EA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FCFB79-6545-42AE-ADCD-A82B22A31E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CA4A1-F4AA-46AD-8225-DD27EE153D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DE37-79FF-423F-9E1A-AF16D6CC369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B0E5-2403-439B-BC35-3510FF5975D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2468-B367-49F0-97F4-910ADF70068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1767-3B2E-4D54-90BF-B4BA4BB66B7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70D0-C121-4ABD-9FFD-97FB8843E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4589-0183-4C05-B655-4C86BF4E056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1E99-5A61-46DD-8A6E-D142758853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3F48-3AAA-4F2A-AA22-C5DDF45E8A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BBB0-EF57-41D6-A348-798E519F91C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8A7C-97A6-49BB-ADD0-6A0B5BC3A0B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886F-2655-4F6A-8BEA-37985133B3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D973-E7CF-414F-9AF1-FB120D3DDFA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5B07-BE42-494F-8D37-B1CF80095D7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000" y="1197000"/>
            <a:ext cx="8351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24000" y="1052280"/>
            <a:ext cx="849600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24000" y="1341000"/>
            <a:ext cx="8496000" cy="444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3200"/>
            </a:br>
            <a:br>
              <a:rPr sz="2000"/>
            </a:b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78920" y="907560"/>
            <a:ext cx="842508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11600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125000"/>
            <a:ext cx="86374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5280" y="1125000"/>
            <a:ext cx="8569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25092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826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68" name="Picture 9" descr=""/>
          <p:cNvPicPr/>
          <p:nvPr/>
        </p:nvPicPr>
        <p:blipFill>
          <a:blip r:embed="rId1"/>
          <a:stretch/>
        </p:blipFill>
        <p:spPr>
          <a:xfrm>
            <a:off x="0" y="0"/>
            <a:ext cx="9144000" cy="1368360"/>
          </a:xfrm>
          <a:prstGeom prst="rect">
            <a:avLst/>
          </a:prstGeom>
          <a:ln w="0">
            <a:noFill/>
          </a:ln>
        </p:spPr>
      </p:pic>
      <p:pic>
        <p:nvPicPr>
          <p:cNvPr id="1269" name="Picture 10" descr=""/>
          <p:cNvPicPr/>
          <p:nvPr/>
        </p:nvPicPr>
        <p:blipFill>
          <a:blip r:embed="rId2"/>
          <a:stretch/>
        </p:blipFill>
        <p:spPr>
          <a:xfrm>
            <a:off x="1258920" y="2060640"/>
            <a:ext cx="1297080" cy="1528560"/>
          </a:xfrm>
          <a:prstGeom prst="rect">
            <a:avLst/>
          </a:prstGeom>
          <a:ln w="0">
            <a:noFill/>
          </a:ln>
        </p:spPr>
      </p:pic>
      <p:pic>
        <p:nvPicPr>
          <p:cNvPr id="1270" name="12 - Εικόνα" descr=""/>
          <p:cNvPicPr/>
          <p:nvPr/>
        </p:nvPicPr>
        <p:blipFill>
          <a:blip r:embed="rId3"/>
          <a:stretch/>
        </p:blipFill>
        <p:spPr>
          <a:xfrm>
            <a:off x="6948360" y="1989000"/>
            <a:ext cx="1444680" cy="1573200"/>
          </a:xfrm>
          <a:prstGeom prst="rect">
            <a:avLst/>
          </a:prstGeom>
          <a:ln w="0">
            <a:noFill/>
          </a:ln>
        </p:spPr>
      </p:pic>
      <p:sp>
        <p:nvSpPr>
          <p:cNvPr id="1271"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272"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3:57Z</dcterms:modified>
  <cp:revision>163</cp:revision>
  <dc:subject/>
  <dc:title>Παρουσίαση του PowerPoint</dc:title>
</cp:coreProperties>
</file>